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move the slide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B07A-55FE-4C7F-8570-C2E5871B7FC7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20E8-C493-417F-80D8-9A749901E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interpretation is to be preferred over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the text itself for the complex relationship between explaining and understa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6401-A15A-4E4D-ABBF-CCE91D4C7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neutics is not satisfied with translating the language of the other; it wants to speak with the other in the language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AA45-1564-4BE3-A119-E9337BFAF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75E7-8416-41F1-9699-17D53FF2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A0BF-964E-4306-8B89-44B65A7B2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escape our current viewpoint and see a piece of literature as its author intended? We can't: our views are always bound up with our present concerns, just as those concerns are themselves coloured by past tra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rehension of any written text requires hermeneu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ilosophical, theological, or literary problem can only be genuinely understood comprehending its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BC95-84C8-464E-9D8B-B341146C8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neutics does not re-construct the past; it seeks to understand the particular way a problem engages the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D9A0-6928-479D-8782-5A511834C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cludes Biblical hermeneu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C25B-D51B-48D8-A697-76EACA77A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84B1-7FAF-4822-93EF-24B913567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70A7-7463-44B9-AC76-E6D16B871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we absorb a work only when we enlarge the horizon of our understanding, The accepted canons of literature that no longer shock and challenge may not be relev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C07E-B5E0-4A5E-9906-07FF28BC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928-1BE9-4DC7-842A-9C9AAC08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E04-9025-49C2-B675-49B97905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574E2-B22F-4E9F-A0B2-A76669E2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37760-62B0-4055-B0B0-30209AE8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0D45A-3899-47E0-B048-874853E6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85E39-D5EF-4FD6-B676-1CD91740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159B8-EE5C-4C82-A80C-2971317A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985E4-807F-4C18-9547-2600A7A4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C86BA-C5EF-4E74-82D2-E4337C5C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F5AA7-FEB0-4F78-A5FF-D609030C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B80EA-1D04-4A7C-AA26-A8026F43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CC8-9F08-48A6-A00B-F1D05CAA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B1E-48F9-43EE-847D-043F7993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D5BC-1312-42D1-A9E5-0349318A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3BCF-02E1-46F1-862C-B552F819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FFF0-A84C-4587-82F1-B779B2AA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3D6A-1F43-46EF-B8C9-AD2C1B12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B2E1-4638-4E0D-8014-DC859E9D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C59C-755E-40EB-A386-2204DA60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0E2B-5BB8-46DE-B18A-4DC2F0AA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24F-DAE5-4755-A18B-E4FC6B5C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15B5-EA10-43A7-AFBB-00D4F6C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3AF8-7C34-4C3B-9D9C-3B5598A2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9FC0-65B7-4471-B95A-0E1A1227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E16-FAC0-4D69-99E5-318306E3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D7A6-E92A-4DB9-8137-4DC63481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D1FF-EE91-43A5-9E1A-79E99315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2720-A39D-419B-B8FF-C79E3A47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796BA-8465-4014-B372-9DBE9E8F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46F6-C5E6-45AA-A58E-EE49A945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87DE-9C34-48D2-AEC2-8962BF42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3B1-B7C3-49B7-A0EA-7236E645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CA84-355F-41B8-ADCE-457D443A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8CDB4-15F1-4CFF-9117-4EFC5FAA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86A3-69FF-4CED-86EB-A573C517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2F14-D542-4B38-AFB1-6E30C132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4246-1BAF-477C-868E-253F5F11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8919-40AC-4503-8AE6-6A57A77F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0C7B-A333-473B-89AC-68BFF2D9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9CB1-C9EE-482E-805D-4F64FFA5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1B69-B8A9-4ED0-A686-81A0C2F6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3535B-5A82-4CA6-9AA5-07978958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5A2-9A09-42AB-9D40-6C73CB1C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4F93A-EF4F-4077-BCDA-1C9433CF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52613-8FD5-464B-BC7E-E4511642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9D5DF-BDC8-4A95-BD44-D14CE799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9399-7CE3-4436-8B89-C5B39F09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B45BD-2603-4724-A2A5-0F43DCE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D5BB-BB22-48F1-9C4A-8588D9F4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7EC5D-89D8-4A21-8F01-C4E3D8D5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DE8E4-95C4-4F63-BE33-03036B32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5CF05-1DA7-4D71-A90D-F47E2090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19496-DCF3-43B0-9A5F-D8D847BF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941-4806-4513-B5DC-12AAEAEF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4BD2E-3898-4B7D-B205-54274E95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C4E8-1680-4141-B4CC-633B7DB6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CA7BA-2A1B-4750-BE27-9497CAAA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30E70-E237-4A6D-9E18-E19CD3B6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1DD6-8461-44CD-BC26-1C8E1A7F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C32E-2608-4023-99D8-914E5021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9382E-EAC3-4241-A58E-AF2DF46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7BD1E-5EF3-494F-8CE8-AB0DB0E4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888D7-9909-40E1-BD76-AE54897B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F0CC7-83F1-4460-B9D7-E1D97F91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F34-5D50-4B06-B6C9-5BA743A4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0BAAA-00D7-4190-9C5B-FC821072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55C09-4017-4B7D-ACAB-CEF9498B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700CB-D4BE-498B-9FEB-0DCC4141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D785C-CF0A-4974-A31D-B3910BFB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5EF7B-0CF1-4EB5-99E1-97D4D0C6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C4A62-C68C-4B41-A578-8D6F6B74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8F68-A570-4F53-B83C-A9769814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0386B-AAAC-4A53-BACA-3775176B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4DB13-D5F9-4187-8436-B6B6AC24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FEE87-8461-49EA-997A-8EF9676A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934-874B-4FC5-BADB-F4448C37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DF36-538C-4918-9D12-1478ED63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25E90-5756-4F09-87CF-350A88BB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3B1ED-53F5-4FC5-B643-478D9A82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8C82-D502-4ED3-8D06-94E084A5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6F271-E36F-4428-952C-E2728877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67106-D668-4006-B918-A471D835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BD137-C363-4FC4-8893-C6740CDD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A8CA-D36D-4AF6-95F4-94A53FE0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AF78A-A01B-47B2-9B87-F5F41DEC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BE104-0014-48D5-9BBC-2B5C0EB0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457-B4AB-4B1D-879D-A97D4095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49312-D4DB-466B-BB0F-A5302BD3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2A1F9-7F89-498C-B4E7-CC0FFADE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2F177-D0BC-4F11-8A5B-12636C69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A8531-6C16-4605-9290-2B415EB2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B8DBD-6E3C-406B-BFEA-864FA0D3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7135E-BDB2-4B2C-99CD-870F8D5A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2C153-C92A-41F8-ACEF-54C82CE8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CB475-BDE4-4A2C-AA9C-A5A1B3A5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63DA4-23FE-49C1-AB51-031AA674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F3A76-2B0F-4665-8482-49C9CFB2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A6C-07C1-402B-9337-6785DA44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73201-0B09-4E09-8DA0-35B45CC8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BBEBD-5606-4CA7-8E53-40B0A0BD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6FF8E-D230-4A6A-BCC2-4C0064E2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64B22-694F-407E-A196-733316F8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9F84-D100-438F-9913-EAFAF99B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3912C-6400-4B83-9C8B-F479097E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F2E50-86A7-4563-A965-31EAD501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4728B-208A-4A4F-ADD9-10C1C0E4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D7611-913C-4AB7-8C55-2B3E1CE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41875-9A2C-489D-945A-12E128CD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B21B-43D0-4A99-A40B-8326ACFBE825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8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0C73-3168-4C4E-99E3-14C20291020A}" type="slidenum">
              <a:rPr b="0" lang="en-U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E8D6-8447-4881-AB90-4D030C17CB36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8" name="Picture 7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Straight Connector 10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Straight Connector 11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E1D0-92C1-402A-A81C-DEC1FFD2F9FE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81C9-189F-4019-88EC-3CB39F96856E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5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56B8-FC84-468E-ABD5-1FDBBB87E8E1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4063-1375-4922-9C30-978DDBEF8585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1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4A10-3F4E-4A72-9A65-C7A1DE234671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9" name="Group 7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2" name="Straight Connector 10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82BA-0B19-4980-ACCA-6B5C0C5946CE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1176480" y="1384200"/>
            <a:ext cx="6791040" cy="17431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ffffff"/>
                </a:solidFill>
                <a:latin typeface="Book Antiqua"/>
              </a:rPr>
              <a:t>Rose Yali Rickie Hernandez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ffffff"/>
                </a:solidFill>
                <a:latin typeface="Book Antiqua"/>
              </a:rPr>
              <a:t>ENGL 126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How do we arrive at a proper interpretation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Distinguish four levels in a text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word sound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meaning unit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perspectives controlling states of affair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represented objectivitie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5400" spc="-1" strike="noStrike">
                <a:solidFill>
                  <a:srgbClr val="895d1d"/>
                </a:solidFill>
                <a:latin typeface="Book Antiqua"/>
              </a:rPr>
              <a:t>Hermeneutic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Oppose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 radical relativist notion that meaning cannot be trans-lingual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 rationalist tendency to downplay the uniqueness of language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ttp://www.textetc.com/theory/hermeneutics.html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ttp://www.poetrymagic.co.uk/literary-theory/hermeneutics.html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ttp://groups.chass.utoronto.ca/iih/AboutHermeneutics.htm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ttp://en.wikipedia.org/wiki/Hermeneutic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Book Antiqua"/>
              </a:rPr>
              <a:t>http://philosophy.uchicago.edu/faculty/files/forster/HERM.pdf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5400" spc="-1" strike="noStrike">
                <a:solidFill>
                  <a:srgbClr val="895d1d"/>
                </a:solidFill>
                <a:latin typeface="Book Antiqua"/>
              </a:rPr>
              <a:t>Reference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67053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Began as the science of interpreting ancient document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study of interpretation theory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an be either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 art of interpretation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the theory and practice of interpretation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s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It began as a legal and theological methodology governing the application of civil law, canon law, and the interpretation of Scriptur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s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practice of historical retrieval, the re-construction of the historical context of scientific and literary works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study of the interpretation of written text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Especially texts in the areas of literature, religion and law.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Traditional hermeneutics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42" name="Picture 7" descr=""/>
          <p:cNvPicPr/>
          <p:nvPr/>
        </p:nvPicPr>
        <p:blipFill>
          <a:blip r:embed="rId2"/>
          <a:stretch/>
        </p:blipFill>
        <p:spPr>
          <a:xfrm>
            <a:off x="2590920" y="3730680"/>
            <a:ext cx="38098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262626"/>
                </a:solidFill>
                <a:latin typeface="Book Antiqua"/>
              </a:rPr>
              <a:t>Everything in the interpretation process</a:t>
            </a:r>
            <a:endParaRPr b="0" lang="en-US" sz="26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262626"/>
                </a:solidFill>
                <a:latin typeface="Book Antiqua"/>
              </a:rPr>
              <a:t>Written texts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262626"/>
                </a:solidFill>
                <a:latin typeface="Book Antiqua"/>
              </a:rPr>
              <a:t>Verbal </a:t>
            </a: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and nonverbal forms of communication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prior aspects that affect communication </a:t>
            </a:r>
            <a:r>
              <a:rPr b="0" lang="en-US" sz="2200" spc="-1" strike="noStrike">
                <a:solidFill>
                  <a:srgbClr val="262626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52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Book Antiqua"/>
              </a:rPr>
              <a:t>presuppositions </a:t>
            </a:r>
            <a:endParaRPr b="0" lang="en-US" sz="21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52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Book Antiqua"/>
              </a:rPr>
              <a:t>preunderstandings </a:t>
            </a:r>
            <a:endParaRPr b="0" lang="en-US" sz="21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52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Book Antiqua"/>
              </a:rPr>
              <a:t>the meaning and philosophy of language</a:t>
            </a:r>
            <a:endParaRPr b="0" lang="en-US" sz="21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52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Book Antiqua"/>
              </a:rPr>
              <a:t>semiotics </a:t>
            </a:r>
            <a:endParaRPr b="0" lang="en-US" sz="21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ontemporary hermeneutics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e analysis of texts for coherent explanation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 consistency 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eaning emerges in interaction between text and readers, often in societies very different from the writer's expectations, and so largely out of his control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ermeneutic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4:58:05Z</dcterms:created>
  <dc:creator>ITA HERNANDEZ</dc:creator>
  <dc:description/>
  <dc:language>en-US</dc:language>
  <cp:lastModifiedBy>ITA HERNANDEZ</cp:lastModifiedBy>
  <cp:lastPrinted>2011-02-16T14:02:12Z</cp:lastPrinted>
  <dcterms:modified xsi:type="dcterms:W3CDTF">2011-03-29T01:59:23Z</dcterms:modified>
  <cp:revision>11</cp:revision>
  <dc:subject/>
  <dc:title>Hermeneutics</dc:title>
</cp:coreProperties>
</file>